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6227-5019-475A-8602-80A8CF03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FAA9-44EB-4845-8F22-627C3101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C93C4-4B22-44C8-871A-CECB0938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835C0-AC31-43BA-8CDD-1BE31842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8402C-B308-4B96-ADF3-4C0D811F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376A0-75F6-4962-8D01-2BE57564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D6F4D-1C1C-484A-96C5-B85FF2C3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846F1-CB37-46E4-BA1C-62305549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6B9AE-3CAC-4E5A-8811-646395BD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3F73A-90D5-4E00-B52C-E2A9AED7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C183F-FFD9-4967-9347-5E0F137D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24B19-DEA0-4EAF-B63D-70C9B136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DC50-0BAF-44F8-8243-F77B5D2F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6CC35-25B2-441C-8873-5B10148D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3F7D2-3B56-46C7-A79A-FBF9FD81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FC48E-4ECA-47B0-9618-895FD29E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A465B-0CB1-442A-A227-3B6D75F3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F2C80-F207-4BA1-AE0D-DABE78EF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85E43-A9F0-4A45-A9B3-51560686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59080-8227-46DE-9667-6F70C5CF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FF3CA-5CA0-428D-8111-667917A2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ACA8C-7527-4FB1-9340-E9F0CC4A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D045F-AEA4-4761-915D-B9871156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75D7-F347-49B0-98CD-5873D1AC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D560C-4375-4FA9-AC8E-153867D0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8EEA4-6D7A-4445-A78F-D37A0A35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85B4E-86DB-4896-811F-01B11441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28646-F380-47BB-94F5-E1FA5EC9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8BDAE-B806-4AE7-A671-FE275023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28364-1A25-45D0-BE10-DF30138E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A2A2A-3C1E-4B63-BDD4-71518A44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B75EA-220B-48E6-9978-91B1BA07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414AA-ED3F-4504-93A9-6D33D618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DF25E-F00C-4C17-8664-0B2BD4F9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3A69-477A-4BCA-B564-104A4A56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BEA36-2724-4744-8C47-85DB18EE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DA059-EFC1-4DED-B46B-7CCEF122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E3366-3550-47AF-8EBF-61365247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0004B-3407-4A8C-B37B-157D3503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89002-6CB3-430D-B350-CCB7CEF2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2FDAB-C319-42E0-9514-BB44592E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D3DC7-1804-448C-B49F-E3839831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B5974-EBF6-4ED1-86BE-0F3CF60D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6AC0F-C3ED-456D-8C31-239ADC7A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555AD-EEC6-491D-B618-560EFABB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861C-9BD3-453B-8AE2-7ABF1044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E69FB-3490-4A6F-92AC-C300DE1A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C7F63-08B9-41E9-88B2-C16C6D81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F929C-2359-4624-8834-6ACCF668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7ACE5-163F-46CA-86D3-EE914929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85041-ED74-4660-B29D-C3E81F3C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B7262C-D787-44F3-9465-6C55501D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815D93-4C9D-4365-9EE5-7D75A7FC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3B6928-B9A0-4F7F-A659-D6B42AAC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984C1A-4B09-4815-9287-6D9F0C3E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C4EBE0-1BED-41B3-BC24-CFA4FF86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2DBF-94B0-4D39-A145-0C5088A0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C3D9C5-7519-457D-9FC3-A8CB0970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C46C9-4992-4AEC-9060-96EABCE8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6F1858-251A-4171-931B-A189F754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6276A1-5BF8-4995-B5B6-2761311E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2F5E88-2A4F-479F-AA29-2893F6F0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80CADA-E0BD-41E3-BFEF-BA8A0CDA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589473-880F-47D6-B755-70FF287A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2AFB61-10B5-4B9D-8432-A6A53098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37FEAB-D88A-45E8-9B71-07027ED0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642CED-396A-431F-BA93-9B2E6CC2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67F8-93F9-4DAA-893E-91604B84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FE4ED7-C874-464A-88A3-EE5A5C0F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7C8EA0-A441-406D-9ECB-23E658BF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4B1DEB-FBD4-4481-9AF6-51B3AA26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F09263-71E1-4787-ACC4-ACAF0BF4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FAC4C3-E1B7-46BB-9AA7-3612E610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1EC1DE-4608-4CA2-A746-39D49666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0809D4-4664-4636-9F9F-50DF3774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9789C4-A610-449D-9BAB-0C7D71B3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FE72FC-585E-4E7A-8827-23E88814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EA16C0-3B27-42F5-829A-3D79786D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A157-3640-48AC-B34F-2CFEDAB0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9B4949-9681-4032-8651-5B21F3CF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DD2CA7-E117-499C-B7E7-C56714DB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35E2C9-BAC7-4814-94FE-34F763E3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F649AA-DCA7-48D8-8888-F1EC3775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F11B16-FD8E-4626-9E92-A32AD0FD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CB1CB0-4BBC-463F-8FC8-33DD0C1E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25A1DA-2E4C-4FD7-811E-859519BC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8FA8D7-D23E-47DE-B378-0C12B909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D06011-F2D1-4EA6-8B68-B25626F8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74E705-3AC5-4F34-AF8D-0C3EEA37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B88E-B9D2-47A9-A557-E1B5CDC3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97ED95-A901-48AF-8D19-10894B57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0013A5-DB42-4B6F-9237-FD37D214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1A4C1D-E49C-449E-8BC2-B484D777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FABF18-9669-41F1-975D-D5779D95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B647B8-FDFF-423E-8497-8C8CEBE8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E5FC32-E819-499D-A106-B070DBEA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585873-2642-4E4B-A36C-6DCC7D48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059E65-3455-4B62-A661-FE492D91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102909-5160-4C36-A522-4DD5CC0F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0F4CBD-BE68-483F-81B3-A1623CA1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3119-45F0-4E06-8D75-4F7CBBC4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B5A43F-4E63-4847-8B60-74E34262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584C22-6097-4251-8BBE-6AEA23F6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3AEFBC-81AD-401C-BD27-A1AE40FA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08F4-D081-4991-9FB7-85941919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9606-36E7-4A1B-8F85-DE07CF5E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C931-A198-48BE-86A5-8461502C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AEA7-3B2D-4BE5-A8BC-191B5C9F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82F1-28B6-4AC8-BDD9-CF63FC6B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887E-BFA1-4462-9104-4C7FDC2B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090BB-CCD2-414C-96BB-E1E72088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3AAA0-074E-4DA1-B18A-AC89DB62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63CF3-42D8-4CA4-83B8-85099D0C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70518-6079-4759-8255-4A937828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482C3-E458-4CAA-B19E-5F088A38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DAB8-B2DE-4AA9-A13E-CAD3673C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DFC9D-E4BA-45DC-8CDF-B795733A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78234-7553-4059-9E90-806E0733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9B6D5-10B1-49F9-8CEB-11F7F7F0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3F005-230C-4B7B-BCD4-DD956512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05841-FA6B-4BCA-9E8E-FBD59839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EB829-8719-4526-AE72-7100DFAB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1EFA7-80CB-4A64-BC60-085845E3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CBDFB-1D0D-4534-BF4F-CB039662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95BA3-4332-4E66-AFE6-FB082B9F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AFDB8-34CE-41ED-A775-B59F0ECA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E7BD-6C59-4A9E-9D66-00499DE3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86438-6429-4A99-A25E-1082FF74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D9FDA-4690-489F-AAF4-A9D0EAB0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6D7B1-EDA6-43A9-AB21-9B6ECAC2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3F4A9-7274-4063-837E-30D8FC3E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69BF3-B552-43DA-AA3F-9FA46FAE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283B8-E765-4BA0-8622-FAFB1106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9D08B-98DE-48BA-8B6D-8A7FFDAF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EF187-89DA-45D3-9BD8-81E33A26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9DC75-BD3F-409F-8FC1-4637A2F5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DA318-0071-4018-B6BC-1D6E52CE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8C88-1A2B-471E-89CA-EFF186A2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7D21C-3357-4F91-B124-67E341E3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0115B-0A93-4C28-B858-21C42CB7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10984-85CC-4E8F-8EB4-E447E339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DB2CD-36FF-441A-B64E-D0934A4F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936B8-66C8-475F-972D-EC6A6ADD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93A66-FC79-4D3F-82DF-1C150DA8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CDFA8-DE6D-428E-823B-87EA6961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C24CC-D8ED-40DC-8231-D7CCE904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05A97-24C6-4ED4-A9A1-2B43227A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B6354-820C-4A22-A215-9DD0A14F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3062-3CD2-4F38-889F-EA818ED2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8C24A-8840-4264-9649-757F3F99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8AA92-47BE-44C3-9345-D20DDE2F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9999A-A338-438D-B7F7-CBE5CAE8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56543-B1AE-4978-9A65-F51D1F49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02D8E-175B-40AB-B1A1-13ABF482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1368D-5E3A-4660-9D24-D3F6C94D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F214B-AF98-4A03-B1BF-A719A8E9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ED11E-F40E-4606-B040-A6A0A283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1358A-24EC-40E2-A519-18BBAF7A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C3E00-DA9A-4A5C-BC84-B853CDC1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6182-EBAE-464F-B2FE-256A83F6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98F45-9EE8-46E8-B613-200B72F7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6AE74-841A-4D3F-8010-3FA8CFED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FBC70-0C1B-4C33-8B37-16D40F65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74CF6-5F3E-4EE9-87F7-F8F4A0BD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6644C-3816-48E4-9C80-406258AB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E1DAA-7EC6-49D2-A9E4-E6D1A8AA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6AF15-985A-43C9-8B27-29F3A1D1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8009E-2D7F-4A87-95D0-A2F1CA56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B7B42-2751-4B8F-A958-78679223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E3E88-7CF9-4123-A9DC-78C166BD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69C9-C3A8-4E14-B3C5-EDBEADDE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36302-1084-4A0D-BFC0-31F83AE8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B9420-0455-4A22-985B-184AF3CA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6BAF4-454F-44F3-B700-E9D80D2F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50FB7-61E6-4902-AE4D-296D7D7A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2D96C-EA8A-439F-820E-038A7369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A6BDC-D339-421C-8710-73A1C6D1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22D7D-6573-45E3-8576-446A70E8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96261-8297-41B4-AD5C-4F9A3BCD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4E3CB-8A8A-410D-AC72-F89719C1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5324F-9619-4B18-B9AF-A3BF9A1E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DB2A-884D-468B-B8EC-74ED5D5D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C76B4-162C-453C-8152-72F768EB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83D5E-6049-4A2E-B2F5-A0C27BD2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BACB8-613A-4303-92F6-63415B1E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FC9AE-DC64-44E5-AFCC-F4C6C21A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4B6AC-A2C5-4082-BBC4-698F5BD1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A3B10-8A19-406D-AEBE-387212C0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CE75B-7D70-4B0A-8724-B51B4A1D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17545-63E6-417B-9748-6CAEE4E7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0D9CD-1A5F-4510-BA87-83B165FF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0D897-FAFC-4C9E-9011-14165BD9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80F6-91D1-4C6C-8823-56DDC502E365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FE41-9FF4-4C3F-9026-3C5EF2C56757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7B86-C8CB-4076-9D6F-FB49E5B76E8E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891A-71C0-4A49-BC55-EF9CBB255D51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39C7-057F-477E-87A1-939C725C221A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EBD4-EF5E-4743-A1BE-3E31984CF615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BE7F-2E4C-4231-AEC4-E408165912EB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D6DB-C89E-4C96-914B-C711B9A9AF57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F37A-B248-48A6-A5EF-A00219498086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FF56-843F-4E08-92AE-951FD51A04F2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40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B206-2E88-46C8-A4B7-FC800711DECC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41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42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8565-4020-468F-8893-FAB062337165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43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894D-7B4E-48FF-A992-BC550867C04C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44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45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BDB6-0B32-4116-A02D-E94F13E0757F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6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BEBB-B79E-4A6F-AC18-F75A3A8B55FA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7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8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E141-2CA8-4D8F-8A16-2EA7399898D0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6" descr=""/>
          <p:cNvPicPr/>
          <p:nvPr/>
        </p:nvPicPr>
        <p:blipFill>
          <a:blip r:embed="rId3"/>
          <a:stretch/>
        </p:blipFill>
        <p:spPr>
          <a:xfrm>
            <a:off x="603360" y="1427040"/>
            <a:ext cx="7937280" cy="6546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E550-F7AA-42E7-BDFD-6F4EA3946AB9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E9A2-4458-44B5-A326-85C3EE01CF94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9927-BAAF-4D80-96B3-783E2E203465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43DD-DD94-456A-9086-CF0A45B1A864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791A-E686-4E05-A9A5-25437C3F1634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EBB8-D818-47FA-957E-9C0FDBC2147F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1B7B-B9E1-4AD7-91C3-6A957B0AEA13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A071-F51F-4A5F-9511-3B894E103C8A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A793-89CE-40F3-AA43-C9AD1966FD1F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5429-DB7F-4D53-984D-A54857FBC9F4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B244-176C-4935-B995-EEBCBC04C944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4FF9-558C-4D57-BF0B-26082603CBE3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8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9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0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1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2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3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7539-34FE-4F5A-9950-6C83BB122CFB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7252-B98A-47B9-96C3-34CF34CF1737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2B38-4A90-4E8A-85D8-07140CBE77C1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C98B-E0F0-4498-83C1-AFF102000F96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Rectangle 1" descr=""/>
          <p:cNvPicPr/>
          <p:nvPr/>
        </p:nvPicPr>
        <p:blipFill>
          <a:blip r:embed="rId2"/>
          <a:stretch/>
        </p:blipFill>
        <p:spPr>
          <a:xfrm>
            <a:off x="652320" y="1530360"/>
            <a:ext cx="7839360" cy="1646280"/>
          </a:xfrm>
          <a:prstGeom prst="rect">
            <a:avLst/>
          </a:prstGeom>
          <a:ln w="0">
            <a:noFill/>
          </a:ln>
        </p:spPr>
      </p:pic>
      <p:pic>
        <p:nvPicPr>
          <p:cNvPr id="683" name="Rectangle 2" descr=""/>
          <p:cNvPicPr/>
          <p:nvPr/>
        </p:nvPicPr>
        <p:blipFill>
          <a:blip r:embed="rId3"/>
          <a:stretch/>
        </p:blipFill>
        <p:spPr>
          <a:xfrm>
            <a:off x="652320" y="3213000"/>
            <a:ext cx="7839360" cy="8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WikiSpace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761760" y="16761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E-mail Invitation or Click “Join” butt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7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Join if you haven’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7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heck e-mail for Invit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7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E-mail address comes from e-communit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7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Update your profil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1182600" indent="-28260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Add a Picture (nice but not required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3" marL="1639800" indent="-295200">
              <a:lnSpc>
                <a:spcPct val="7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Use your e-community picture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ollaborative Web Pag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7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You can Add material to any pag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7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You can Edit material already posted to a pag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7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You can Delete material posted to a pag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7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You can Create a new page with new materia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ateria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7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ext conten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7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yperlink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1182600" indent="-28260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WebPages, Podcasts, Video, Audio, etc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Wiki Pages to Update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ccounting System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ata Model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XBR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Deliverable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6094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ad SAD Wiki chapter 9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gne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rbel"/>
              </a:rPr>
              <a:t>course agreem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ue August 30th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rm Group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1321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Group Assignmen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9200" indent="-349200">
              <a:lnSpc>
                <a:spcPct val="90000"/>
              </a:lnSpc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Teams of at least 5, no more then 6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Project requirements: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lvl="1" marL="681120" indent="-336600">
              <a:lnSpc>
                <a:spcPct val="90000"/>
              </a:lnSpc>
              <a:spcBef>
                <a:spcPts val="476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Brief Description of a Proces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1120" indent="-336600">
              <a:lnSpc>
                <a:spcPct val="90000"/>
              </a:lnSpc>
              <a:spcBef>
                <a:spcPts val="476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etailed Narrative of a Proces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1120" indent="-336600">
              <a:lnSpc>
                <a:spcPct val="90000"/>
              </a:lnSpc>
              <a:spcBef>
                <a:spcPts val="476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 &amp; A Tabl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1120" indent="-336600">
              <a:lnSpc>
                <a:spcPct val="90000"/>
              </a:lnSpc>
              <a:spcBef>
                <a:spcPts val="476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ata Flow Diagrams (context, level-0, and level-1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1120" indent="-336600">
              <a:lnSpc>
                <a:spcPct val="90000"/>
              </a:lnSpc>
              <a:spcBef>
                <a:spcPts val="476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low Char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Implemented via Wiki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Process will come from Process Classification Framework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615D-0F88-428C-AFA7-DF47D5C1A1A0}" type="slidenum">
              <a:rPr b="0" lang="en-US" sz="11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What to Expec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045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 fontScale="99000"/>
          </a:bodyPr>
          <a:p>
            <a:pPr marL="345600" indent="-345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earning the concepts of AI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74720" indent="-33300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eachers open the door. You enter by yourself” </a:t>
            </a: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(old Chinese proverb)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45600" indent="-345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pplying the concepts (Group Case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74720" indent="-33300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hat we have to learn to do, we learn by doing”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(Aristotle)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4648320" y="1981080"/>
            <a:ext cx="3848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t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cumenting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F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low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hat i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asic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adings/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Syllabus Highlight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r. Steven Hornik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mail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rbel"/>
              </a:rPr>
              <a:t>shornik@bus.ucf.edu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urse Webpag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rbel"/>
              </a:rPr>
              <a:t>http://acg6415.wikispaces.com/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ffice Hours: Monday &amp; Wednesday 3:00 – 4:0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; and by appointm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Office: BA1 432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Use Meebo Widget in Wikispac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Text Book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53352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e Accountants Guide to XBRL 4th  ed., by Clinton E Whit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vailable only at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orbel"/>
              </a:rPr>
              <a:t>http:www.skipwhite.com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0099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rbel"/>
              </a:rPr>
              <a:t>Systems Analysis and Design Wiki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hapter 2 and 9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Get 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rbel"/>
              </a:rPr>
              <a:t>Gliffy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Account – Web Based Modeling too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Grade Component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80520" y="2057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xam 1 (Data Models)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xam 2 (XBRL)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usiness Process Model (Group)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5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XML Assignment (6)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6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articipation (Wiki)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25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tal Points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535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Grading Scale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5331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A 4.00 100-93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A- 3.75 92-90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B+ 3.25 89-86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B 3.00 85-83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B- 2.75 82-80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C+ 2.25 79-76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C 2.00 75-73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4648320" y="2743200"/>
            <a:ext cx="38480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C- 1.75 72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D+ 1.25 69-6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D 1.00 65-6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D- 0.75 62-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F 0.00 &lt;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Participation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ecture’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e In Class, Ask Questions, New Technolog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HW / Cas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e In Class, Prepared to discus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iki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Quality of post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Exam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ultiple choic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atch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hort-answe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oblem solving / model build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General Course Objective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You will be expected to prepare models of business processes, specifically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ata Flow Diagrams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low Charts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ain Understanding of XBR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XM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XBR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UBL and XBRL-G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arily, to become consumers of information related to new technology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14:45:46Z</dcterms:created>
  <dc:creator>shornik</dc:creator>
  <dc:description/>
  <cp:keywords/>
  <dc:language>en-US</dc:language>
  <cp:lastModifiedBy>Steven Hornik</cp:lastModifiedBy>
  <dcterms:modified xsi:type="dcterms:W3CDTF">2010-08-23T15:03:09Z</dcterms:modified>
  <cp:revision>3</cp:revision>
  <dc:subject/>
  <dc:title>ACG 5405 Intro</dc:title>
</cp:coreProperties>
</file>